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ECB-CE99-4113-B712-06D92D2A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6F6-BA16-4C16-A682-6D2F816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1ED-039F-494E-BB2D-5853E504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DB3-BFA7-4008-BBFE-20FC2996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02E-DC28-43CF-A243-B13F08E4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481-C260-4292-AAB3-2907FF9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B01-0F4C-4E5D-81B0-47F45B5B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512-F7A6-4BAF-9301-66EF184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D53-609F-463B-AA79-BE5223B2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0C1-E642-4920-89BB-8BEAF5FC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1EE-8F89-4513-9F33-29CCAFCE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154-8C97-4150-B5E5-DEB34640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7F10F-EFFF-4939-8291-A30748DF44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-14400" y="2211480"/>
            <a:ext cx="9177480" cy="21859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779560" y="3738600"/>
            <a:ext cx="35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长春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五年级上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-14400" y="3575160"/>
            <a:ext cx="9164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组合 1"/>
          <p:cNvGrpSpPr/>
          <p:nvPr/>
        </p:nvGrpSpPr>
        <p:grpSpPr>
          <a:xfrm>
            <a:off x="2428920" y="2665440"/>
            <a:ext cx="4259160" cy="893880"/>
            <a:chOff x="2428920" y="2665440"/>
            <a:chExt cx="4259160" cy="893880"/>
          </a:xfrm>
        </p:grpSpPr>
        <p:sp>
          <p:nvSpPr>
            <p:cNvPr id="45" name="任意多边形 13"/>
            <p:cNvSpPr/>
            <p:nvPr/>
          </p:nvSpPr>
          <p:spPr>
            <a:xfrm rot="645000">
              <a:off x="2822400" y="2879640"/>
              <a:ext cx="592560" cy="374760"/>
            </a:xfrm>
            <a:custGeom>
              <a:avLst/>
              <a:gdLst/>
              <a:ahLst/>
              <a:rect l="l" t="t" r="r" b="b"/>
              <a:pathLst>
                <a:path w="849463" h="849463">
                  <a:moveTo>
                    <a:pt x="0" y="141580"/>
                  </a:moveTo>
                  <a:cubicBezTo>
                    <a:pt x="0" y="63388"/>
                    <a:pt x="63388" y="0"/>
                    <a:pt x="141580" y="0"/>
                  </a:cubicBezTo>
                  <a:lnTo>
                    <a:pt x="707883" y="0"/>
                  </a:lnTo>
                  <a:cubicBezTo>
                    <a:pt x="786075" y="0"/>
                    <a:pt x="849463" y="63388"/>
                    <a:pt x="849463" y="141580"/>
                  </a:cubicBezTo>
                  <a:lnTo>
                    <a:pt x="849463" y="707883"/>
                  </a:lnTo>
                  <a:cubicBezTo>
                    <a:pt x="849463" y="786075"/>
                    <a:pt x="786075" y="849463"/>
                    <a:pt x="707883" y="849463"/>
                  </a:cubicBezTo>
                  <a:lnTo>
                    <a:pt x="141580" y="849463"/>
                  </a:lnTo>
                  <a:cubicBezTo>
                    <a:pt x="63388" y="849463"/>
                    <a:pt x="0" y="786075"/>
                    <a:pt x="0" y="707883"/>
                  </a:cubicBezTo>
                  <a:lnTo>
                    <a:pt x="0" y="141580"/>
                  </a:lnTo>
                  <a:close/>
                </a:path>
              </a:pathLst>
            </a:custGeom>
            <a:solidFill>
              <a:srgbClr val="d99694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6960" rIns="246960" tIns="127800" bIns="12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任意多边形 15"/>
            <p:cNvSpPr/>
            <p:nvPr/>
          </p:nvSpPr>
          <p:spPr>
            <a:xfrm rot="780600">
              <a:off x="3957840" y="2880000"/>
              <a:ext cx="592560" cy="375840"/>
            </a:xfrm>
            <a:custGeom>
              <a:avLst/>
              <a:gdLst/>
              <a:ahLst/>
              <a:rect l="l" t="t" r="r" b="b"/>
              <a:pathLst>
                <a:path w="849463" h="849463">
                  <a:moveTo>
                    <a:pt x="0" y="141580"/>
                  </a:moveTo>
                  <a:cubicBezTo>
                    <a:pt x="0" y="63388"/>
                    <a:pt x="63388" y="0"/>
                    <a:pt x="141580" y="0"/>
                  </a:cubicBezTo>
                  <a:lnTo>
                    <a:pt x="707883" y="0"/>
                  </a:lnTo>
                  <a:cubicBezTo>
                    <a:pt x="786075" y="0"/>
                    <a:pt x="849463" y="63388"/>
                    <a:pt x="849463" y="141580"/>
                  </a:cubicBezTo>
                  <a:lnTo>
                    <a:pt x="849463" y="707883"/>
                  </a:lnTo>
                  <a:cubicBezTo>
                    <a:pt x="849463" y="786075"/>
                    <a:pt x="786075" y="849463"/>
                    <a:pt x="707883" y="849463"/>
                  </a:cubicBezTo>
                  <a:lnTo>
                    <a:pt x="141580" y="849463"/>
                  </a:lnTo>
                  <a:cubicBezTo>
                    <a:pt x="63388" y="849463"/>
                    <a:pt x="0" y="786075"/>
                    <a:pt x="0" y="707883"/>
                  </a:cubicBezTo>
                  <a:lnTo>
                    <a:pt x="0" y="141580"/>
                  </a:lnTo>
                  <a:close/>
                </a:path>
              </a:pathLst>
            </a:custGeom>
            <a:solidFill>
              <a:srgbClr val="ff99ff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6960" rIns="246960" tIns="128880" bIns="12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任意多边形 14"/>
            <p:cNvSpPr/>
            <p:nvPr/>
          </p:nvSpPr>
          <p:spPr>
            <a:xfrm>
              <a:off x="3395160" y="2891160"/>
              <a:ext cx="592560" cy="360720"/>
            </a:xfrm>
            <a:custGeom>
              <a:avLst/>
              <a:gdLst/>
              <a:ahLst/>
              <a:rect l="l" t="t" r="r" b="b"/>
              <a:pathLst>
                <a:path w="849463" h="849463">
                  <a:moveTo>
                    <a:pt x="0" y="141580"/>
                  </a:moveTo>
                  <a:cubicBezTo>
                    <a:pt x="0" y="63388"/>
                    <a:pt x="63388" y="0"/>
                    <a:pt x="141580" y="0"/>
                  </a:cubicBezTo>
                  <a:lnTo>
                    <a:pt x="707883" y="0"/>
                  </a:lnTo>
                  <a:cubicBezTo>
                    <a:pt x="786075" y="0"/>
                    <a:pt x="849463" y="63388"/>
                    <a:pt x="849463" y="141580"/>
                  </a:cubicBezTo>
                  <a:lnTo>
                    <a:pt x="849463" y="707883"/>
                  </a:lnTo>
                  <a:cubicBezTo>
                    <a:pt x="849463" y="786075"/>
                    <a:pt x="786075" y="849463"/>
                    <a:pt x="707883" y="849463"/>
                  </a:cubicBezTo>
                  <a:lnTo>
                    <a:pt x="141580" y="849463"/>
                  </a:lnTo>
                  <a:cubicBezTo>
                    <a:pt x="63388" y="849463"/>
                    <a:pt x="0" y="786075"/>
                    <a:pt x="0" y="707883"/>
                  </a:cubicBezTo>
                  <a:lnTo>
                    <a:pt x="0" y="141580"/>
                  </a:lnTo>
                  <a:close/>
                </a:path>
              </a:pathLst>
            </a:custGeom>
            <a:solidFill>
              <a:srgbClr val="c3d69b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6960" rIns="246960" tIns="113760" bIns="11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任意多边形 16"/>
            <p:cNvSpPr/>
            <p:nvPr/>
          </p:nvSpPr>
          <p:spPr>
            <a:xfrm rot="21378600">
              <a:off x="4567680" y="2882880"/>
              <a:ext cx="592560" cy="375840"/>
            </a:xfrm>
            <a:custGeom>
              <a:avLst/>
              <a:gdLst/>
              <a:ahLst/>
              <a:rect l="l" t="t" r="r" b="b"/>
              <a:pathLst>
                <a:path w="849463" h="849463">
                  <a:moveTo>
                    <a:pt x="0" y="141580"/>
                  </a:moveTo>
                  <a:cubicBezTo>
                    <a:pt x="0" y="63388"/>
                    <a:pt x="63388" y="0"/>
                    <a:pt x="141580" y="0"/>
                  </a:cubicBezTo>
                  <a:lnTo>
                    <a:pt x="707883" y="0"/>
                  </a:lnTo>
                  <a:cubicBezTo>
                    <a:pt x="786075" y="0"/>
                    <a:pt x="849463" y="63388"/>
                    <a:pt x="849463" y="141580"/>
                  </a:cubicBezTo>
                  <a:lnTo>
                    <a:pt x="849463" y="707883"/>
                  </a:lnTo>
                  <a:cubicBezTo>
                    <a:pt x="849463" y="786075"/>
                    <a:pt x="786075" y="849463"/>
                    <a:pt x="707883" y="849463"/>
                  </a:cubicBezTo>
                  <a:lnTo>
                    <a:pt x="141580" y="849463"/>
                  </a:lnTo>
                  <a:cubicBezTo>
                    <a:pt x="63388" y="849463"/>
                    <a:pt x="0" y="786075"/>
                    <a:pt x="0" y="707883"/>
                  </a:cubicBezTo>
                  <a:lnTo>
                    <a:pt x="0" y="14158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6960" rIns="246960" tIns="128880" bIns="12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矩形 18" descr=""/>
            <p:cNvPicPr/>
            <p:nvPr/>
          </p:nvPicPr>
          <p:blipFill>
            <a:blip r:embed="rId1"/>
            <a:stretch/>
          </p:blipFill>
          <p:spPr>
            <a:xfrm>
              <a:off x="2428920" y="2665440"/>
              <a:ext cx="137448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矩形 19" descr=""/>
            <p:cNvPicPr/>
            <p:nvPr/>
          </p:nvPicPr>
          <p:blipFill>
            <a:blip r:embed="rId2"/>
            <a:stretch/>
          </p:blipFill>
          <p:spPr>
            <a:xfrm>
              <a:off x="3027600" y="2665440"/>
              <a:ext cx="137448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矩形 20" descr=""/>
            <p:cNvPicPr/>
            <p:nvPr/>
          </p:nvPicPr>
          <p:blipFill>
            <a:blip r:embed="rId3"/>
            <a:stretch/>
          </p:blipFill>
          <p:spPr>
            <a:xfrm>
              <a:off x="3517200" y="2665440"/>
              <a:ext cx="137448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任意多边形 17"/>
            <p:cNvSpPr/>
            <p:nvPr/>
          </p:nvSpPr>
          <p:spPr>
            <a:xfrm rot="391800">
              <a:off x="5125320" y="2888280"/>
              <a:ext cx="591120" cy="375840"/>
            </a:xfrm>
            <a:custGeom>
              <a:avLst/>
              <a:gdLst/>
              <a:ahLst/>
              <a:rect l="l" t="t" r="r" b="b"/>
              <a:pathLst>
                <a:path w="849463" h="849463">
                  <a:moveTo>
                    <a:pt x="0" y="141580"/>
                  </a:moveTo>
                  <a:cubicBezTo>
                    <a:pt x="0" y="63388"/>
                    <a:pt x="63388" y="0"/>
                    <a:pt x="141580" y="0"/>
                  </a:cubicBezTo>
                  <a:lnTo>
                    <a:pt x="707883" y="0"/>
                  </a:lnTo>
                  <a:cubicBezTo>
                    <a:pt x="786075" y="0"/>
                    <a:pt x="849463" y="63388"/>
                    <a:pt x="849463" y="141580"/>
                  </a:cubicBezTo>
                  <a:lnTo>
                    <a:pt x="849463" y="707883"/>
                  </a:lnTo>
                  <a:cubicBezTo>
                    <a:pt x="849463" y="786075"/>
                    <a:pt x="786075" y="849463"/>
                    <a:pt x="707883" y="849463"/>
                  </a:cubicBezTo>
                  <a:lnTo>
                    <a:pt x="141580" y="849463"/>
                  </a:lnTo>
                  <a:cubicBezTo>
                    <a:pt x="63388" y="849463"/>
                    <a:pt x="0" y="786075"/>
                    <a:pt x="0" y="707883"/>
                  </a:cubicBezTo>
                  <a:lnTo>
                    <a:pt x="0" y="141580"/>
                  </a:lnTo>
                  <a:close/>
                </a:path>
              </a:pathLst>
            </a:custGeom>
            <a:solidFill>
              <a:srgbClr val="fac090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6960" rIns="246960" tIns="128880" bIns="12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矩形 21" descr=""/>
            <p:cNvPicPr/>
            <p:nvPr/>
          </p:nvPicPr>
          <p:blipFill>
            <a:blip r:embed="rId4"/>
            <a:stretch/>
          </p:blipFill>
          <p:spPr>
            <a:xfrm>
              <a:off x="4162680" y="2665440"/>
              <a:ext cx="137448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矩形 27" descr=""/>
            <p:cNvPicPr/>
            <p:nvPr/>
          </p:nvPicPr>
          <p:blipFill>
            <a:blip r:embed="rId5"/>
            <a:stretch/>
          </p:blipFill>
          <p:spPr>
            <a:xfrm>
              <a:off x="4719960" y="2668680"/>
              <a:ext cx="137448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任意多边形 22"/>
            <p:cNvSpPr/>
            <p:nvPr/>
          </p:nvSpPr>
          <p:spPr>
            <a:xfrm rot="21207600">
              <a:off x="5666400" y="2881080"/>
              <a:ext cx="591120" cy="375840"/>
            </a:xfrm>
            <a:custGeom>
              <a:avLst/>
              <a:gdLst/>
              <a:ahLst/>
              <a:rect l="l" t="t" r="r" b="b"/>
              <a:pathLst>
                <a:path w="849463" h="849463">
                  <a:moveTo>
                    <a:pt x="0" y="141580"/>
                  </a:moveTo>
                  <a:cubicBezTo>
                    <a:pt x="0" y="63388"/>
                    <a:pt x="63388" y="0"/>
                    <a:pt x="141580" y="0"/>
                  </a:cubicBezTo>
                  <a:lnTo>
                    <a:pt x="707883" y="0"/>
                  </a:lnTo>
                  <a:cubicBezTo>
                    <a:pt x="786075" y="0"/>
                    <a:pt x="849463" y="63388"/>
                    <a:pt x="849463" y="141580"/>
                  </a:cubicBezTo>
                  <a:lnTo>
                    <a:pt x="849463" y="707883"/>
                  </a:lnTo>
                  <a:cubicBezTo>
                    <a:pt x="849463" y="786075"/>
                    <a:pt x="786075" y="849463"/>
                    <a:pt x="707883" y="849463"/>
                  </a:cubicBezTo>
                  <a:lnTo>
                    <a:pt x="141580" y="849463"/>
                  </a:lnTo>
                  <a:cubicBezTo>
                    <a:pt x="63388" y="849463"/>
                    <a:pt x="0" y="786075"/>
                    <a:pt x="0" y="707883"/>
                  </a:cubicBezTo>
                  <a:lnTo>
                    <a:pt x="0" y="141580"/>
                  </a:lnTo>
                  <a:close/>
                </a:path>
              </a:pathLst>
            </a:custGeom>
            <a:solidFill>
              <a:srgbClr val="c3d69b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6960" rIns="246960" tIns="128880" bIns="12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矩形 23" descr=""/>
            <p:cNvPicPr/>
            <p:nvPr/>
          </p:nvPicPr>
          <p:blipFill>
            <a:blip r:embed="rId6"/>
            <a:stretch/>
          </p:blipFill>
          <p:spPr>
            <a:xfrm>
              <a:off x="5313600" y="2696040"/>
              <a:ext cx="1374480" cy="86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0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6" descr="꽃"/>
          <p:cNvPicPr/>
          <p:nvPr/>
        </p:nvPicPr>
        <p:blipFill>
          <a:blip r:embed="rId4"/>
          <a:stretch/>
        </p:blipFill>
        <p:spPr>
          <a:xfrm>
            <a:off x="3059280" y="3068640"/>
            <a:ext cx="3443040" cy="3322800"/>
          </a:xfrm>
          <a:prstGeom prst="rect">
            <a:avLst/>
          </a:prstGeom>
          <a:ln w="0">
            <a:noFill/>
          </a:ln>
        </p:spPr>
      </p:pic>
      <p:sp>
        <p:nvSpPr>
          <p:cNvPr id="102" name="矩形 3"/>
          <p:cNvSpPr/>
          <p:nvPr/>
        </p:nvSpPr>
        <p:spPr>
          <a:xfrm>
            <a:off x="558144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087640" y="1285920"/>
            <a:ext cx="5946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4079"/>
                </a:solidFill>
                <a:latin typeface="Calibri"/>
                <a:ea typeface="微软雅黑"/>
              </a:rPr>
              <a:t>感受美好自然，培养语文素养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036880" y="2563920"/>
            <a:ext cx="5398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4079"/>
                </a:solidFill>
                <a:latin typeface="Calibri"/>
              </a:rPr>
              <a:t>GAN SHOU MEI HAO ZI RAN</a:t>
            </a:r>
            <a:r>
              <a:rPr b="0" lang="zh-CN" sz="1600" spc="-1" strike="noStrike">
                <a:solidFill>
                  <a:srgbClr val="014079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14079"/>
                </a:solidFill>
                <a:latin typeface="Calibri"/>
              </a:rPr>
              <a:t> PEI YANG YU WEN SU Y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849240" y="2490840"/>
            <a:ext cx="74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次交际的内容是“转述”，转述别人的话与自己和别人说话不一样，需要注意人称和专属内容的完整与真实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组合 9"/>
          <p:cNvGrpSpPr/>
          <p:nvPr/>
        </p:nvGrpSpPr>
        <p:grpSpPr>
          <a:xfrm>
            <a:off x="787320" y="1654200"/>
            <a:ext cx="2952720" cy="633240"/>
            <a:chOff x="787320" y="1654200"/>
            <a:chExt cx="2952720" cy="633240"/>
          </a:xfrm>
        </p:grpSpPr>
        <p:pic>
          <p:nvPicPr>
            <p:cNvPr id="59" name="任意多边形 10" descr=""/>
            <p:cNvPicPr/>
            <p:nvPr/>
          </p:nvPicPr>
          <p:blipFill>
            <a:blip r:embed="rId1"/>
            <a:stretch/>
          </p:blipFill>
          <p:spPr>
            <a:xfrm>
              <a:off x="787320" y="1654200"/>
              <a:ext cx="2952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平行四边形 11"/>
            <p:cNvSpPr/>
            <p:nvPr/>
          </p:nvSpPr>
          <p:spPr>
            <a:xfrm>
              <a:off x="942120" y="2147040"/>
              <a:ext cx="340560" cy="42120"/>
            </a:xfrm>
            <a:prstGeom prst="parallelogram">
              <a:avLst>
                <a:gd name="adj" fmla="val 19072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平行四边形 12"/>
            <p:cNvSpPr/>
            <p:nvPr/>
          </p:nvSpPr>
          <p:spPr>
            <a:xfrm>
              <a:off x="1303560" y="2147040"/>
              <a:ext cx="340560" cy="42120"/>
            </a:xfrm>
            <a:prstGeom prst="parallelogram">
              <a:avLst>
                <a:gd name="adj" fmla="val 190720"/>
              </a:avLst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平行四边形 13"/>
            <p:cNvSpPr/>
            <p:nvPr/>
          </p:nvSpPr>
          <p:spPr>
            <a:xfrm>
              <a:off x="1665000" y="2147040"/>
              <a:ext cx="340560" cy="42120"/>
            </a:xfrm>
            <a:prstGeom prst="parallelogram">
              <a:avLst>
                <a:gd name="adj" fmla="val 190720"/>
              </a:avLst>
            </a:prstGeom>
            <a:solidFill>
              <a:srgbClr val="8064a2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平行四边形 14"/>
            <p:cNvSpPr/>
            <p:nvPr/>
          </p:nvSpPr>
          <p:spPr>
            <a:xfrm>
              <a:off x="2026440" y="2147040"/>
              <a:ext cx="340560" cy="42120"/>
            </a:xfrm>
            <a:prstGeom prst="parallelogram">
              <a:avLst>
                <a:gd name="adj" fmla="val 190720"/>
              </a:avLst>
            </a:prstGeom>
            <a:solidFill>
              <a:srgbClr val="4bacc6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平行四边形 15"/>
            <p:cNvSpPr/>
            <p:nvPr/>
          </p:nvSpPr>
          <p:spPr>
            <a:xfrm>
              <a:off x="2387880" y="2147040"/>
              <a:ext cx="340560" cy="42120"/>
            </a:xfrm>
            <a:prstGeom prst="parallelogram">
              <a:avLst>
                <a:gd name="adj" fmla="val 190720"/>
              </a:avLst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平行四边形 16"/>
            <p:cNvSpPr/>
            <p:nvPr/>
          </p:nvSpPr>
          <p:spPr>
            <a:xfrm>
              <a:off x="2747880" y="2147040"/>
              <a:ext cx="342360" cy="42120"/>
            </a:xfrm>
            <a:prstGeom prst="parallelogram">
              <a:avLst>
                <a:gd name="adj" fmla="val 190825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平行四边形 17"/>
            <p:cNvSpPr/>
            <p:nvPr/>
          </p:nvSpPr>
          <p:spPr>
            <a:xfrm>
              <a:off x="3109680" y="2147040"/>
              <a:ext cx="342360" cy="42120"/>
            </a:xfrm>
            <a:prstGeom prst="parallelogram">
              <a:avLst>
                <a:gd name="adj" fmla="val 190825"/>
              </a:avLst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771480" y="2189160"/>
            <a:ext cx="754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5400" indent="-725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确定内容。小组讨论：你最想“转述”的内容是什么？然后交流准备的材料，要做到大家尽量都有发言的机会，可以用列提纲的方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5400" indent="-725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开展“转述”活动。听者认真倾听别人的发言。说者要态度大方，抓住要点，语言清晰、流畅，把内容说明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9"/>
          <p:cNvGrpSpPr/>
          <p:nvPr/>
        </p:nvGrpSpPr>
        <p:grpSpPr>
          <a:xfrm>
            <a:off x="909720" y="1324080"/>
            <a:ext cx="2563560" cy="633240"/>
            <a:chOff x="909720" y="1324080"/>
            <a:chExt cx="2563560" cy="633240"/>
          </a:xfrm>
        </p:grpSpPr>
        <p:pic>
          <p:nvPicPr>
            <p:cNvPr id="69" name="任意多边形 10" descr=""/>
            <p:cNvPicPr/>
            <p:nvPr/>
          </p:nvPicPr>
          <p:blipFill>
            <a:blip r:embed="rId1"/>
            <a:stretch/>
          </p:blipFill>
          <p:spPr>
            <a:xfrm>
              <a:off x="909720" y="1324080"/>
              <a:ext cx="2563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平行四边形 11"/>
            <p:cNvSpPr/>
            <p:nvPr/>
          </p:nvSpPr>
          <p:spPr>
            <a:xfrm>
              <a:off x="985680" y="1816560"/>
              <a:ext cx="321840" cy="42120"/>
            </a:xfrm>
            <a:prstGeom prst="parallelogram">
              <a:avLst>
                <a:gd name="adj" fmla="val 180271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平行四边形 12"/>
            <p:cNvSpPr/>
            <p:nvPr/>
          </p:nvSpPr>
          <p:spPr>
            <a:xfrm>
              <a:off x="1326960" y="1816560"/>
              <a:ext cx="321840" cy="42120"/>
            </a:xfrm>
            <a:prstGeom prst="parallelogram">
              <a:avLst>
                <a:gd name="adj" fmla="val 180271"/>
              </a:avLst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平行四边形 13"/>
            <p:cNvSpPr/>
            <p:nvPr/>
          </p:nvSpPr>
          <p:spPr>
            <a:xfrm>
              <a:off x="1668240" y="1816560"/>
              <a:ext cx="321840" cy="42120"/>
            </a:xfrm>
            <a:prstGeom prst="parallelogram">
              <a:avLst>
                <a:gd name="adj" fmla="val 180271"/>
              </a:avLst>
            </a:prstGeom>
            <a:solidFill>
              <a:srgbClr val="8064a2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平行四边形 14"/>
            <p:cNvSpPr/>
            <p:nvPr/>
          </p:nvSpPr>
          <p:spPr>
            <a:xfrm>
              <a:off x="2009880" y="1816560"/>
              <a:ext cx="321840" cy="42120"/>
            </a:xfrm>
            <a:prstGeom prst="parallelogram">
              <a:avLst>
                <a:gd name="adj" fmla="val 180271"/>
              </a:avLst>
            </a:prstGeom>
            <a:solidFill>
              <a:srgbClr val="4bacc6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平行四边形 15"/>
            <p:cNvSpPr/>
            <p:nvPr/>
          </p:nvSpPr>
          <p:spPr>
            <a:xfrm>
              <a:off x="2351160" y="1816560"/>
              <a:ext cx="321840" cy="42120"/>
            </a:xfrm>
            <a:prstGeom prst="parallelogram">
              <a:avLst>
                <a:gd name="adj" fmla="val 180271"/>
              </a:avLst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平行四边形 16"/>
            <p:cNvSpPr/>
            <p:nvPr/>
          </p:nvSpPr>
          <p:spPr>
            <a:xfrm>
              <a:off x="2691000" y="1816560"/>
              <a:ext cx="323280" cy="42120"/>
            </a:xfrm>
            <a:prstGeom prst="parallelogram">
              <a:avLst>
                <a:gd name="adj" fmla="val 180261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平行四边形 17"/>
            <p:cNvSpPr/>
            <p:nvPr/>
          </p:nvSpPr>
          <p:spPr>
            <a:xfrm>
              <a:off x="3032280" y="1816560"/>
              <a:ext cx="323280" cy="42120"/>
            </a:xfrm>
            <a:prstGeom prst="parallelogram">
              <a:avLst>
                <a:gd name="adj" fmla="val 180261"/>
              </a:avLst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781200" y="1857240"/>
            <a:ext cx="75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研究“转述”要求，达成共识。口头转述要注意人称的变化，把第一人称“我、我们”改为第三人称“他、他们、她、她们”。转述内容时，可以详细转述；可以摘要转述；还可以创造性地转述，即在原始内容的基础上，对其顺序和内容做某些改变。总之，口头转述要依据原始材料，又要根据实际情况，有重点、有条理地进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9"/>
          <p:cNvGrpSpPr/>
          <p:nvPr/>
        </p:nvGrpSpPr>
        <p:grpSpPr>
          <a:xfrm>
            <a:off x="816120" y="1228680"/>
            <a:ext cx="1979640" cy="633600"/>
            <a:chOff x="816120" y="1228680"/>
            <a:chExt cx="1979640" cy="633600"/>
          </a:xfrm>
        </p:grpSpPr>
        <p:pic>
          <p:nvPicPr>
            <p:cNvPr id="79" name="任意多边形 10" descr=""/>
            <p:cNvPicPr/>
            <p:nvPr/>
          </p:nvPicPr>
          <p:blipFill>
            <a:blip r:embed="rId1"/>
            <a:stretch/>
          </p:blipFill>
          <p:spPr>
            <a:xfrm>
              <a:off x="816120" y="1228680"/>
              <a:ext cx="197964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平行四边形 11"/>
            <p:cNvSpPr/>
            <p:nvPr/>
          </p:nvSpPr>
          <p:spPr>
            <a:xfrm>
              <a:off x="966600" y="1722600"/>
              <a:ext cx="243720" cy="42120"/>
            </a:xfrm>
            <a:prstGeom prst="parallelogram">
              <a:avLst>
                <a:gd name="adj" fmla="val 136514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平行四边形 12"/>
            <p:cNvSpPr/>
            <p:nvPr/>
          </p:nvSpPr>
          <p:spPr>
            <a:xfrm>
              <a:off x="1225440" y="1722600"/>
              <a:ext cx="243720" cy="42120"/>
            </a:xfrm>
            <a:prstGeom prst="parallelogram">
              <a:avLst>
                <a:gd name="adj" fmla="val 136514"/>
              </a:avLst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平行四边形 13"/>
            <p:cNvSpPr/>
            <p:nvPr/>
          </p:nvSpPr>
          <p:spPr>
            <a:xfrm>
              <a:off x="1483920" y="1722600"/>
              <a:ext cx="243720" cy="42120"/>
            </a:xfrm>
            <a:prstGeom prst="parallelogram">
              <a:avLst>
                <a:gd name="adj" fmla="val 136514"/>
              </a:avLst>
            </a:prstGeom>
            <a:solidFill>
              <a:srgbClr val="8064a2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平行四边形 14"/>
            <p:cNvSpPr/>
            <p:nvPr/>
          </p:nvSpPr>
          <p:spPr>
            <a:xfrm>
              <a:off x="1742760" y="1722600"/>
              <a:ext cx="243720" cy="42120"/>
            </a:xfrm>
            <a:prstGeom prst="parallelogram">
              <a:avLst>
                <a:gd name="adj" fmla="val 136514"/>
              </a:avLst>
            </a:prstGeom>
            <a:solidFill>
              <a:srgbClr val="4bacc6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平行四边形 15"/>
            <p:cNvSpPr/>
            <p:nvPr/>
          </p:nvSpPr>
          <p:spPr>
            <a:xfrm>
              <a:off x="2001240" y="1722600"/>
              <a:ext cx="243720" cy="42120"/>
            </a:xfrm>
            <a:prstGeom prst="parallelogram">
              <a:avLst>
                <a:gd name="adj" fmla="val 136514"/>
              </a:avLst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平行四边形 16"/>
            <p:cNvSpPr/>
            <p:nvPr/>
          </p:nvSpPr>
          <p:spPr>
            <a:xfrm>
              <a:off x="2258640" y="1722600"/>
              <a:ext cx="244800" cy="42120"/>
            </a:xfrm>
            <a:prstGeom prst="parallelogram">
              <a:avLst>
                <a:gd name="adj" fmla="val 1365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平行四边形 17"/>
            <p:cNvSpPr/>
            <p:nvPr/>
          </p:nvSpPr>
          <p:spPr>
            <a:xfrm>
              <a:off x="2517480" y="1722600"/>
              <a:ext cx="244800" cy="42120"/>
            </a:xfrm>
            <a:prstGeom prst="parallelogram">
              <a:avLst>
                <a:gd name="adj" fmla="val 136500"/>
              </a:avLst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1"/>
          <p:cNvSpPr/>
          <p:nvPr/>
        </p:nvSpPr>
        <p:spPr>
          <a:xfrm>
            <a:off x="600120" y="1979640"/>
            <a:ext cx="78818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）学习方法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黑体"/>
                <a:ea typeface="黑体"/>
              </a:rPr>
              <a:t>老师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同学们，让我们一起来学习直述句改转述句的几种基本方法。到底什么是直述句？什么是转述句呢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同学甲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直述句就是把说话人的原句原意表达出来，也叫直接引用。比如，小丽说：“我今天真开心。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66ff"/>
                </a:solidFill>
                <a:latin typeface="黑体"/>
                <a:ea typeface="黑体"/>
              </a:rPr>
              <a:t>同学丙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转述应该就是把别人的话告诉另一个人吧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黑体"/>
                <a:ea typeface="黑体"/>
              </a:rPr>
              <a:t>老师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准确地说应该是：转述句就是把别人的话转达出来，也叫间接引用。小丽说：“我今天真开心。” 这句话应该如何改成转述句呢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615960" y="1254240"/>
            <a:ext cx="78976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dc7230"/>
                </a:solidFill>
                <a:latin typeface="黑体"/>
                <a:ea typeface="黑体"/>
              </a:rPr>
              <a:t>同学乙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来试试。应该改成：小丽说，我今天真开心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黑体"/>
                <a:ea typeface="黑体"/>
              </a:rPr>
              <a:t>同学丙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不对。应该是：小丽说，她今天真开心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老师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对，我们发现直述句中的冒号在转述句中变成了逗号，双引号不见了，双引号中的第一人称“我”改为了第三人称“她（他）”，冒号前面的“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××× 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说”这个提示语不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757080" y="3822840"/>
            <a:ext cx="7709040" cy="2606760"/>
          </a:xfrm>
          <a:prstGeom prst="rect">
            <a:avLst/>
          </a:prstGeom>
          <a:solidFill>
            <a:srgbClr val="fdeada"/>
          </a:solidFill>
          <a:ln cap="rnd"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其实，这就是直述句改转述句的基本方法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冒号变逗号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双引号删去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③</a:t>
            </a: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第一人称“我”</a:t>
            </a:r>
            <a:r>
              <a:rPr b="1" lang="en-US" sz="2200" spc="-1" strike="noStrike">
                <a:solidFill>
                  <a:srgbClr val="0070c0"/>
                </a:solidFill>
                <a:latin typeface="宋体"/>
              </a:rPr>
              <a:t>——</a:t>
            </a: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改为第三人称“她（他）”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④</a:t>
            </a:r>
            <a:r>
              <a:rPr b="1" lang="zh-CN" sz="2200" spc="-1" strike="noStrike">
                <a:solidFill>
                  <a:srgbClr val="0070c0"/>
                </a:solidFill>
                <a:latin typeface="宋体"/>
              </a:rPr>
              <a:t>提示语不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568" t="6907" r="6512" b="4532"/>
          <a:stretch/>
        </p:blipFill>
        <p:spPr>
          <a:xfrm>
            <a:off x="6226200" y="3359160"/>
            <a:ext cx="2271600" cy="2144880"/>
          </a:xfrm>
          <a:prstGeom prst="rect">
            <a:avLst/>
          </a:prstGeom>
          <a:ln w="0">
            <a:noFill/>
          </a:ln>
        </p:spPr>
      </p:pic>
      <p:sp>
        <p:nvSpPr>
          <p:cNvPr id="91" name="矩形 1"/>
          <p:cNvSpPr/>
          <p:nvPr/>
        </p:nvSpPr>
        <p:spPr>
          <a:xfrm>
            <a:off x="600120" y="1306440"/>
            <a:ext cx="78976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）巩固练习（我们来试着改一改。你改对了吗？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同学甲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们再来转述一个句子吧。妈妈说：“我明天要去武汉出差，你在家里要听话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dc7230"/>
                </a:solidFill>
                <a:latin typeface="黑体"/>
                <a:ea typeface="黑体"/>
              </a:rPr>
              <a:t>同学乙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这个应该这样改：妈妈说，她明天要去武汉出差，让我在家里要听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黑体"/>
                <a:ea typeface="黑体"/>
              </a:rPr>
              <a:t>同学丙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来考考大家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老师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好，哪位同学知道怎么回答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请大胆地说出来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黑体"/>
                <a:ea typeface="黑体"/>
              </a:rPr>
              <a:t>同学丙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爸爸说：“你妈妈正在休息，别打扰她，跟我一起出去散步吧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3300" t="3193" r="1098" b="3193"/>
          <a:stretch/>
        </p:blipFill>
        <p:spPr>
          <a:xfrm>
            <a:off x="4033800" y="2900520"/>
            <a:ext cx="4417920" cy="3402000"/>
          </a:xfrm>
          <a:prstGeom prst="rect">
            <a:avLst/>
          </a:prstGeom>
          <a:ln w="0">
            <a:noFill/>
          </a:ln>
        </p:spPr>
      </p:pic>
      <p:sp>
        <p:nvSpPr>
          <p:cNvPr id="93" name="矩形 1"/>
          <p:cNvSpPr/>
          <p:nvPr/>
        </p:nvSpPr>
        <p:spPr>
          <a:xfrm>
            <a:off x="552600" y="960480"/>
            <a:ext cx="78991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同学甲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我知道。这句话应该转述为：爸爸说，我妈妈正在休息，让我别打扰妈妈，跟他一起出去散步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黑体"/>
                <a:ea typeface="黑体"/>
              </a:rPr>
              <a:t>老师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非常好。回顾今天改写转述句的方法，可以用“一不变二变”的口诀来归纳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773280" y="2894040"/>
            <a:ext cx="3105000" cy="345312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“</a:t>
            </a: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一不变二变”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直述句改转述句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永远不变提示语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标点人称都要变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冒号变逗号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双引号要删掉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改对人称最重要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608040" y="2111400"/>
            <a:ext cx="78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经过刚才的学习，相信同学们已经明白了转述的基本要求。首先要注意人称的变化，而述内容时，既要依据原始材料，又要根据实际情况，有重点、有条理地进行转述。老师希你们在以后的生活中，能够学以致用，认真完成各项口头转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pple apple</dc:creator>
  <dc:description/>
  <dc:language>en-US</dc:language>
  <cp:lastModifiedBy>Administrator</cp:lastModifiedBy>
  <dcterms:modified xsi:type="dcterms:W3CDTF">2017-11-22T01:05:58Z</dcterms:modified>
  <cp:revision>3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